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71FF-4BD1-4404-A226-7F956C64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A6C0-271A-4A18-9816-AF4881A7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6A64-BC04-4DD1-BB3C-9B159F13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B3FA-9716-4431-808F-0A69999A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860E-D549-4DF0-A8CF-91104BBD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C4C9-BEFE-49E6-AEEA-62F640DC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264F-84C1-4C71-B536-8CC2FB79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6D0-A80F-4854-9FC6-A0AAB90C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8089-249F-4BB7-A199-E97B45E2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6116-D62B-42ED-A70E-F21DD8B4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0D4F-58A2-4442-88E9-BC2D56B6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7788-7294-444A-BB82-A3626675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6fed"/>
            </a:gs>
            <a:gs pos="50000">
              <a:srgbClr val="000000"/>
            </a:gs>
            <a:gs pos="100000">
              <a:srgbClr val="f76f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AF50-E16A-4918-B66D-DAE6B209D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6fed"/>
            </a:gs>
            <a:gs pos="50000">
              <a:srgbClr val="000000"/>
            </a:gs>
            <a:gs pos="100000">
              <a:srgbClr val="f76f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y dylan watk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1" descr=""/>
          <p:cNvPicPr/>
          <p:nvPr/>
        </p:nvPicPr>
        <p:blipFill>
          <a:blip r:embed="rId1"/>
          <a:stretch/>
        </p:blipFill>
        <p:spPr>
          <a:xfrm>
            <a:off x="3352680" y="609480"/>
            <a:ext cx="2362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6fed"/>
            </a:gs>
            <a:gs pos="50000">
              <a:srgbClr val="000000"/>
            </a:gs>
            <a:gs pos="100000">
              <a:srgbClr val="f76f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ur tae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Miss.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Miss.har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Miss.math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Miss.rob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Miss.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Miss.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Miss.j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Miss.dix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Miss.wili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6fed"/>
            </a:gs>
            <a:gs pos="50000">
              <a:srgbClr val="000000"/>
            </a:gs>
            <a:gs pos="100000">
              <a:srgbClr val="f76f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come in at 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have one hour lesson then we go out To play and come back in school for a nother les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go to diner at quarter past twelve then we go back out to play for 30 min. then we go back in for a lesson then we go back out play again then we go back in then we have a little lesson then hom time. and we do gutiar less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6fed"/>
            </a:gs>
            <a:gs pos="50000">
              <a:srgbClr val="000000"/>
            </a:gs>
            <a:gs pos="100000">
              <a:srgbClr val="f76fe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our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mony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got 5 class ro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got after school clu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teachers and helpers are very kind to us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a computer sw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9:49:27Z</dcterms:created>
  <dc:creator>4glenb2</dc:creator>
  <dc:description/>
  <dc:language>en-US</dc:language>
  <cp:lastModifiedBy>4glenb2</cp:lastModifiedBy>
  <dcterms:modified xsi:type="dcterms:W3CDTF">2009-09-30T10:41:51Z</dcterms:modified>
  <cp:revision>1</cp:revision>
  <dc:subject/>
  <dc:title>Our school</dc:title>
</cp:coreProperties>
</file>